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7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8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8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8974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65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418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18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0C84F-B622-46AF-98E3-A15D803FB5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9BDA2-FF1B-4229-A473-0BF7DB8C8C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AA106-BE7C-4459-88C5-2E3EAC04F4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1371600" y="763560"/>
            <a:ext cx="490068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6CCC9-7C78-4D67-80A6-D734563FAE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1371600" y="763560"/>
            <a:ext cx="49021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2A9F0-3ADF-4D6E-9A4C-283594BD8E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1371600" y="763560"/>
            <a:ext cx="490068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FAF1D-A60D-4789-98F9-14395E9ACE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371600" y="763560"/>
            <a:ext cx="49021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CAC3A-5D52-44D1-B096-4CD2B09F64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88E7A-783D-4AB4-8C38-979A7D7CAB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D73DC-F896-4703-A76D-C80F797A3F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32E96-CE2C-4B76-96B2-32DB4CD0BA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FEEA7-2C11-4C5C-9BFA-3A21BFAD6C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2F354-5B80-40F5-978D-7A5E97B16B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E11F2-EEC3-4D75-B30A-460AC13AE5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5776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440" y="2229840"/>
            <a:ext cx="475776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44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9072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61280" y="84276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70120" y="84276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440" y="222984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61280" y="222984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70120" y="222984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440" y="842760"/>
            <a:ext cx="475776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5776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-46440"/>
            <a:ext cx="475128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44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9072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440" y="2229840"/>
            <a:ext cx="475776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440" y="842760"/>
            <a:ext cx="475776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9684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29664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Laptop 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September 18 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22076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228600" y="969840"/>
            <a:ext cx="51642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333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DejaVu Sans"/>
              </a:rPr>
              <a:t>Futur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65320" indent="-119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 Sans"/>
              </a:rPr>
              <a:t>Automatic management of suspend/resu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65320" indent="-119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 Sans"/>
              </a:rPr>
              <a:t>Aggressive CPU suspen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96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 Sans"/>
              </a:rPr>
              <a:t>Suspend measurements are in the 2 watt r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Powe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559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elping OLPC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4762440" cy="31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loyment Locat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ation we ne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is the climate and geography of deployment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s  of closest larg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natural resources are availab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many schools, how many kids, and how many kids per cla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0" y="914400"/>
            <a:ext cx="5572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2" marL="1165320" indent="-119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30932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DejaVu Sans"/>
              </a:rPr>
              <a:t>How many of those schools don't have a power grid or have unreliable power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65320" indent="-119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30932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DejaVu Sans"/>
              </a:rPr>
              <a:t>Expected laptop usage.   How often will you need to recharge the batteri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379440" y="3240"/>
            <a:ext cx="47559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elping OL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559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62440" cy="25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plying power can be a large and difficult challenge in a deployment.  Even in areas with a power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ck of an established grid increased the difficulty significant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 recipe solutions. Each site is u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ow Much Power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114800" cy="24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 Primary  m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rging 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charg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rging 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x draw of 17 Wat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char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ss than 1 watt in 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g 4 – 7 watts while running w/ peaks up to 9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harging.  How Long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stest.  Laptop of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l power used to charge 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hour 46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ptop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cess power used to charge pow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bout 2 and half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Various solar panels at MAX output 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pto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W 5 hours 15 minu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W 3 hours 45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W 2 hours 40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1120" y="20016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8080"/>
                </a:solidFill>
                <a:latin typeface="Arial"/>
              </a:rPr>
              <a:t>Alternative</a:t>
            </a: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 Power Sourc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0760" y="777600"/>
            <a:ext cx="4937040" cy="26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/7/10 Watt sol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rox 30 Watt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Batteries in 2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Ah LA battery.  Will charge 2 bat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za battery needs recharging af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8080"/>
                </a:solidFill>
                <a:latin typeface="Arial"/>
              </a:rPr>
              <a:t>Alternative Power Sources</a:t>
            </a:r>
            <a:endParaRPr b="1" lang="en-US" sz="26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r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needs 2 hours of cra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really viable until Ge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ass Ro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w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, Wind, Pedal,Tread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Multi-Battery Charg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rges 15 batteries in 2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00 Watt 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20 Watt DC option (10 – 28 Volt inpu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 Batteries in 2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rect connection to 60W solar blanket(s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Power Managemen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76424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rdware ready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rrent stable builds have support for sleep on lid close or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bout 4 hours of battery life during normal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4-16 hours of battery life in sleep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.2.x Has New “Extreme” power savings mode + additional power savings in sleep for non-mesh. (40+ hours of life in sleep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dcterms:modified xsi:type="dcterms:W3CDTF">2008-09-18T17:55:53Z</dcterms:modified>
  <cp:revision>1</cp:revision>
  <dc:subject/>
  <dc:title>One Laptop per Child</dc:title>
</cp:coreProperties>
</file>